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83FB8-DA5E-4A0D-9DAB-3C4E1279B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E1DEE-33BA-4AC6-BA97-21555DFE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6488E-0A93-4D08-AEFB-C212447C4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654C0-B84E-460E-B115-E76A1A0B7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96B5-F4D6-42AB-884E-81C1D4887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A7D7-A535-4971-ADB6-B029CA16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A9B9-10F6-48DC-B602-CE945631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FD68-8AF6-4679-B6D1-6DD1F6FE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0B26-BF0B-40DD-B8BA-6AC0CC6F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7C96-2BE2-4306-B979-B70D04D8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ACC8-DB61-475E-B73E-DE2171FE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24C5E-F3B9-4136-8B50-9E1B583B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809C-A88E-4352-BE8F-C552DE01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F8E9-BFBF-4314-8DA9-7FB141D4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338B-03F2-4AE7-98AF-D60EE46F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D3C2-55A4-4036-80A5-9244F745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809B-255B-4336-9902-A768E3E3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CBB85-6145-4187-BB36-A222C62A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4025B-DAD0-4FF9-AE63-19B721DF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D46CF-BA63-4121-A2C7-951EBE45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ED8A3-0DA5-46E6-AEB4-AF87AF16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02402-0B39-4EEC-81C4-CC47F4DC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07E0B-0BE2-45CC-BE82-5C10FD1A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71657-1BBA-414C-81A2-AF605697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1C0E-E39B-4414-B615-210555917F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5E97-3ACD-4911-A2FD-37D614DADD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yfair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53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yfair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764712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fair is a polygraphic method designed to invalidate single frequency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 is a 5 x 5 matrix of letters (j is not used) arranged by a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if the keyword is harpsicord, the matrix key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1992600" y="4933800"/>
            <a:ext cx="1338840" cy="278280"/>
            <a:chOff x="1992600" y="4933800"/>
            <a:chExt cx="1338840" cy="278280"/>
          </a:xfrm>
        </p:grpSpPr>
        <p:grpSp>
          <p:nvGrpSpPr>
            <p:cNvPr id="116" name=""/>
            <p:cNvGrpSpPr/>
            <p:nvPr/>
          </p:nvGrpSpPr>
          <p:grpSpPr>
            <a:xfrm>
              <a:off x="2792880" y="4933800"/>
              <a:ext cx="272160" cy="278280"/>
              <a:chOff x="2792880" y="4933800"/>
              <a:chExt cx="272160" cy="278280"/>
            </a:xfrm>
          </p:grpSpPr>
          <p:sp>
            <p:nvSpPr>
              <p:cNvPr id="117" name=""/>
              <p:cNvSpPr/>
              <p:nvPr/>
            </p:nvSpPr>
            <p:spPr>
              <a:xfrm>
                <a:off x="2797200" y="493380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792880" y="49356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2526120" y="4933800"/>
              <a:ext cx="272160" cy="278280"/>
              <a:chOff x="2526120" y="4933800"/>
              <a:chExt cx="272160" cy="278280"/>
            </a:xfrm>
          </p:grpSpPr>
          <p:sp>
            <p:nvSpPr>
              <p:cNvPr id="120" name=""/>
              <p:cNvSpPr/>
              <p:nvPr/>
            </p:nvSpPr>
            <p:spPr>
              <a:xfrm>
                <a:off x="2530440" y="493380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526120" y="49356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68720" y="4933800"/>
              <a:ext cx="272160" cy="278280"/>
              <a:chOff x="2268720" y="4933800"/>
              <a:chExt cx="272160" cy="278280"/>
            </a:xfrm>
          </p:grpSpPr>
          <p:sp>
            <p:nvSpPr>
              <p:cNvPr id="123" name=""/>
              <p:cNvSpPr/>
              <p:nvPr/>
            </p:nvSpPr>
            <p:spPr>
              <a:xfrm>
                <a:off x="2273040" y="493380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68720" y="49356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1992600" y="4933800"/>
              <a:ext cx="272160" cy="278280"/>
              <a:chOff x="1992600" y="4933800"/>
              <a:chExt cx="272160" cy="278280"/>
            </a:xfrm>
          </p:grpSpPr>
          <p:sp>
            <p:nvSpPr>
              <p:cNvPr id="126" name=""/>
              <p:cNvSpPr/>
              <p:nvPr/>
            </p:nvSpPr>
            <p:spPr>
              <a:xfrm>
                <a:off x="1996920" y="493380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992600" y="49356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3059280" y="4933800"/>
              <a:ext cx="272160" cy="278280"/>
              <a:chOff x="3059280" y="4933800"/>
              <a:chExt cx="272160" cy="278280"/>
            </a:xfrm>
          </p:grpSpPr>
          <p:sp>
            <p:nvSpPr>
              <p:cNvPr id="129" name=""/>
              <p:cNvSpPr/>
              <p:nvPr/>
            </p:nvSpPr>
            <p:spPr>
              <a:xfrm>
                <a:off x="3063600" y="493380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059280" y="49356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"/>
          <p:cNvGrpSpPr/>
          <p:nvPr/>
        </p:nvGrpSpPr>
        <p:grpSpPr>
          <a:xfrm>
            <a:off x="1992600" y="5200560"/>
            <a:ext cx="1338840" cy="278280"/>
            <a:chOff x="1992600" y="5200560"/>
            <a:chExt cx="1338840" cy="278280"/>
          </a:xfrm>
        </p:grpSpPr>
        <p:grpSp>
          <p:nvGrpSpPr>
            <p:cNvPr id="132" name=""/>
            <p:cNvGrpSpPr/>
            <p:nvPr/>
          </p:nvGrpSpPr>
          <p:grpSpPr>
            <a:xfrm>
              <a:off x="2792880" y="5200560"/>
              <a:ext cx="272160" cy="278280"/>
              <a:chOff x="2792880" y="5200560"/>
              <a:chExt cx="272160" cy="278280"/>
            </a:xfrm>
          </p:grpSpPr>
          <p:sp>
            <p:nvSpPr>
              <p:cNvPr id="133" name=""/>
              <p:cNvSpPr/>
              <p:nvPr/>
            </p:nvSpPr>
            <p:spPr>
              <a:xfrm>
                <a:off x="2797200" y="52005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792880" y="5202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2526120" y="5200560"/>
              <a:ext cx="272160" cy="278280"/>
              <a:chOff x="2526120" y="5200560"/>
              <a:chExt cx="272160" cy="278280"/>
            </a:xfrm>
          </p:grpSpPr>
          <p:sp>
            <p:nvSpPr>
              <p:cNvPr id="136" name=""/>
              <p:cNvSpPr/>
              <p:nvPr/>
            </p:nvSpPr>
            <p:spPr>
              <a:xfrm>
                <a:off x="2530440" y="52005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526120" y="5202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2268720" y="5200560"/>
              <a:ext cx="272160" cy="278280"/>
              <a:chOff x="2268720" y="5200560"/>
              <a:chExt cx="272160" cy="278280"/>
            </a:xfrm>
          </p:grpSpPr>
          <p:sp>
            <p:nvSpPr>
              <p:cNvPr id="139" name=""/>
              <p:cNvSpPr/>
              <p:nvPr/>
            </p:nvSpPr>
            <p:spPr>
              <a:xfrm>
                <a:off x="2273040" y="5200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268720" y="5202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1992600" y="5200560"/>
              <a:ext cx="272160" cy="278280"/>
              <a:chOff x="1992600" y="5200560"/>
              <a:chExt cx="272160" cy="278280"/>
            </a:xfrm>
          </p:grpSpPr>
          <p:sp>
            <p:nvSpPr>
              <p:cNvPr id="142" name=""/>
              <p:cNvSpPr/>
              <p:nvPr/>
            </p:nvSpPr>
            <p:spPr>
              <a:xfrm>
                <a:off x="1996920" y="5200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992600" y="5202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059280" y="5200560"/>
              <a:ext cx="272160" cy="278280"/>
              <a:chOff x="3059280" y="5200560"/>
              <a:chExt cx="272160" cy="27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063600" y="5200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059280" y="5202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"/>
          <p:cNvGrpSpPr/>
          <p:nvPr/>
        </p:nvGrpSpPr>
        <p:grpSpPr>
          <a:xfrm>
            <a:off x="1992600" y="5467320"/>
            <a:ext cx="1338840" cy="277920"/>
            <a:chOff x="1992600" y="5467320"/>
            <a:chExt cx="1338840" cy="277920"/>
          </a:xfrm>
        </p:grpSpPr>
        <p:grpSp>
          <p:nvGrpSpPr>
            <p:cNvPr id="148" name=""/>
            <p:cNvGrpSpPr/>
            <p:nvPr/>
          </p:nvGrpSpPr>
          <p:grpSpPr>
            <a:xfrm>
              <a:off x="2792880" y="5467320"/>
              <a:ext cx="272160" cy="277920"/>
              <a:chOff x="2792880" y="5467320"/>
              <a:chExt cx="272160" cy="277920"/>
            </a:xfrm>
          </p:grpSpPr>
          <p:sp>
            <p:nvSpPr>
              <p:cNvPr id="149" name=""/>
              <p:cNvSpPr/>
              <p:nvPr/>
            </p:nvSpPr>
            <p:spPr>
              <a:xfrm>
                <a:off x="2797200" y="5467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792880" y="5468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2526120" y="5467320"/>
              <a:ext cx="272160" cy="277920"/>
              <a:chOff x="2526120" y="5467320"/>
              <a:chExt cx="272160" cy="277920"/>
            </a:xfrm>
          </p:grpSpPr>
          <p:sp>
            <p:nvSpPr>
              <p:cNvPr id="152" name=""/>
              <p:cNvSpPr/>
              <p:nvPr/>
            </p:nvSpPr>
            <p:spPr>
              <a:xfrm>
                <a:off x="2530440" y="5467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526120" y="5468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2268720" y="5467320"/>
              <a:ext cx="272160" cy="277920"/>
              <a:chOff x="2268720" y="5467320"/>
              <a:chExt cx="272160" cy="277920"/>
            </a:xfrm>
          </p:grpSpPr>
          <p:sp>
            <p:nvSpPr>
              <p:cNvPr id="155" name=""/>
              <p:cNvSpPr/>
              <p:nvPr/>
            </p:nvSpPr>
            <p:spPr>
              <a:xfrm>
                <a:off x="2273040" y="5467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268720" y="5468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1992600" y="5467320"/>
              <a:ext cx="272160" cy="277920"/>
              <a:chOff x="1992600" y="5467320"/>
              <a:chExt cx="272160" cy="277920"/>
            </a:xfrm>
          </p:grpSpPr>
          <p:sp>
            <p:nvSpPr>
              <p:cNvPr id="158" name=""/>
              <p:cNvSpPr/>
              <p:nvPr/>
            </p:nvSpPr>
            <p:spPr>
              <a:xfrm>
                <a:off x="1996920" y="5467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992600" y="5468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3059280" y="5467320"/>
              <a:ext cx="272160" cy="277920"/>
              <a:chOff x="3059280" y="5467320"/>
              <a:chExt cx="272160" cy="277920"/>
            </a:xfrm>
          </p:grpSpPr>
          <p:sp>
            <p:nvSpPr>
              <p:cNvPr id="161" name=""/>
              <p:cNvSpPr/>
              <p:nvPr/>
            </p:nvSpPr>
            <p:spPr>
              <a:xfrm>
                <a:off x="3063600" y="5467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059280" y="5468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"/>
          <p:cNvGrpSpPr/>
          <p:nvPr/>
        </p:nvGrpSpPr>
        <p:grpSpPr>
          <a:xfrm>
            <a:off x="1992600" y="5734080"/>
            <a:ext cx="1338840" cy="277920"/>
            <a:chOff x="1992600" y="5734080"/>
            <a:chExt cx="1338840" cy="277920"/>
          </a:xfrm>
        </p:grpSpPr>
        <p:grpSp>
          <p:nvGrpSpPr>
            <p:cNvPr id="164" name=""/>
            <p:cNvGrpSpPr/>
            <p:nvPr/>
          </p:nvGrpSpPr>
          <p:grpSpPr>
            <a:xfrm>
              <a:off x="2792880" y="5734080"/>
              <a:ext cx="272160" cy="277920"/>
              <a:chOff x="2792880" y="5734080"/>
              <a:chExt cx="272160" cy="277920"/>
            </a:xfrm>
          </p:grpSpPr>
          <p:sp>
            <p:nvSpPr>
              <p:cNvPr id="165" name=""/>
              <p:cNvSpPr/>
              <p:nvPr/>
            </p:nvSpPr>
            <p:spPr>
              <a:xfrm>
                <a:off x="2797200" y="57340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792880" y="5735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2526120" y="5734080"/>
              <a:ext cx="272160" cy="277920"/>
              <a:chOff x="2526120" y="5734080"/>
              <a:chExt cx="272160" cy="277920"/>
            </a:xfrm>
          </p:grpSpPr>
          <p:sp>
            <p:nvSpPr>
              <p:cNvPr id="168" name=""/>
              <p:cNvSpPr/>
              <p:nvPr/>
            </p:nvSpPr>
            <p:spPr>
              <a:xfrm>
                <a:off x="2530440" y="57340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526120" y="5735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2268720" y="5734080"/>
              <a:ext cx="272160" cy="277920"/>
              <a:chOff x="2268720" y="5734080"/>
              <a:chExt cx="272160" cy="277920"/>
            </a:xfrm>
          </p:grpSpPr>
          <p:sp>
            <p:nvSpPr>
              <p:cNvPr id="171" name=""/>
              <p:cNvSpPr/>
              <p:nvPr/>
            </p:nvSpPr>
            <p:spPr>
              <a:xfrm>
                <a:off x="2273040" y="5734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68720" y="5735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1992600" y="5734080"/>
              <a:ext cx="272160" cy="277920"/>
              <a:chOff x="1992600" y="5734080"/>
              <a:chExt cx="272160" cy="277920"/>
            </a:xfrm>
          </p:grpSpPr>
          <p:sp>
            <p:nvSpPr>
              <p:cNvPr id="174" name=""/>
              <p:cNvSpPr/>
              <p:nvPr/>
            </p:nvSpPr>
            <p:spPr>
              <a:xfrm>
                <a:off x="1996920" y="5734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992600" y="5735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3059280" y="5734080"/>
              <a:ext cx="272160" cy="277920"/>
              <a:chOff x="3059280" y="5734080"/>
              <a:chExt cx="272160" cy="277920"/>
            </a:xfrm>
          </p:grpSpPr>
          <p:sp>
            <p:nvSpPr>
              <p:cNvPr id="177" name=""/>
              <p:cNvSpPr/>
              <p:nvPr/>
            </p:nvSpPr>
            <p:spPr>
              <a:xfrm>
                <a:off x="3063600" y="5734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59280" y="5735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"/>
          <p:cNvGrpSpPr/>
          <p:nvPr/>
        </p:nvGrpSpPr>
        <p:grpSpPr>
          <a:xfrm>
            <a:off x="1992600" y="5991120"/>
            <a:ext cx="1338840" cy="278280"/>
            <a:chOff x="1992600" y="5991120"/>
            <a:chExt cx="1338840" cy="278280"/>
          </a:xfrm>
        </p:grpSpPr>
        <p:grpSp>
          <p:nvGrpSpPr>
            <p:cNvPr id="180" name=""/>
            <p:cNvGrpSpPr/>
            <p:nvPr/>
          </p:nvGrpSpPr>
          <p:grpSpPr>
            <a:xfrm>
              <a:off x="2792880" y="5991120"/>
              <a:ext cx="272160" cy="278280"/>
              <a:chOff x="2792880" y="5991120"/>
              <a:chExt cx="272160" cy="278280"/>
            </a:xfrm>
          </p:grpSpPr>
          <p:sp>
            <p:nvSpPr>
              <p:cNvPr id="181" name=""/>
              <p:cNvSpPr/>
              <p:nvPr/>
            </p:nvSpPr>
            <p:spPr>
              <a:xfrm>
                <a:off x="2797200" y="599112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792880" y="5992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526120" y="5991120"/>
              <a:ext cx="272160" cy="278280"/>
              <a:chOff x="2526120" y="5991120"/>
              <a:chExt cx="272160" cy="278280"/>
            </a:xfrm>
          </p:grpSpPr>
          <p:sp>
            <p:nvSpPr>
              <p:cNvPr id="184" name=""/>
              <p:cNvSpPr/>
              <p:nvPr/>
            </p:nvSpPr>
            <p:spPr>
              <a:xfrm>
                <a:off x="2530440" y="599112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526120" y="5992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2268720" y="5991120"/>
              <a:ext cx="272160" cy="278280"/>
              <a:chOff x="2268720" y="5991120"/>
              <a:chExt cx="272160" cy="278280"/>
            </a:xfrm>
          </p:grpSpPr>
          <p:sp>
            <p:nvSpPr>
              <p:cNvPr id="187" name=""/>
              <p:cNvSpPr/>
              <p:nvPr/>
            </p:nvSpPr>
            <p:spPr>
              <a:xfrm>
                <a:off x="2273040" y="599112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68720" y="5992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1992600" y="5991120"/>
              <a:ext cx="272160" cy="278280"/>
              <a:chOff x="1992600" y="5991120"/>
              <a:chExt cx="272160" cy="278280"/>
            </a:xfrm>
          </p:grpSpPr>
          <p:sp>
            <p:nvSpPr>
              <p:cNvPr id="190" name=""/>
              <p:cNvSpPr/>
              <p:nvPr/>
            </p:nvSpPr>
            <p:spPr>
              <a:xfrm>
                <a:off x="1996920" y="599112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92600" y="5992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3059280" y="5991120"/>
              <a:ext cx="272160" cy="278280"/>
              <a:chOff x="3059280" y="5991120"/>
              <a:chExt cx="272160" cy="278280"/>
            </a:xfrm>
          </p:grpSpPr>
          <p:sp>
            <p:nvSpPr>
              <p:cNvPr id="193" name=""/>
              <p:cNvSpPr/>
              <p:nvPr/>
            </p:nvSpPr>
            <p:spPr>
              <a:xfrm>
                <a:off x="3063600" y="599112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059280" y="5992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"/>
          <p:cNvSpPr/>
          <p:nvPr/>
        </p:nvSpPr>
        <p:spPr>
          <a:xfrm>
            <a:off x="3598560" y="5227560"/>
            <a:ext cx="5119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E:  the second R in harpsicord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6FB91-77BE-447D-8914-A7ADFC88F7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yfair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ext is pre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’s are replaced with i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null letter such as q is placed between any identical pairs of letters so that “tt” becomes “tqt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plaintext has an odd number of letters, the null letter is added on to the e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iphertext is produced by looking at each pair of letters in the plaintext 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e in the same row in the key matrix, then they are replaced by the characters to their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e in the same column then they are replaced by the letters below t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e in different rows and columns then they are replaced by the letters found on the other two corners of a rectangle formed by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688B0-6022-477E-A760-11843934C0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83600" cy="26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keyword array formed from “software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intext letter pair: “RE”  becomes “EB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the rows circle back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mselves so the letter p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LQ” becomes “M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5430960" y="4038480"/>
            <a:ext cx="1338840" cy="1335600"/>
            <a:chOff x="5430960" y="4038480"/>
            <a:chExt cx="1338840" cy="1335600"/>
          </a:xfrm>
        </p:grpSpPr>
        <p:grpSp>
          <p:nvGrpSpPr>
            <p:cNvPr id="201" name=""/>
            <p:cNvGrpSpPr/>
            <p:nvPr/>
          </p:nvGrpSpPr>
          <p:grpSpPr>
            <a:xfrm>
              <a:off x="5430960" y="4038480"/>
              <a:ext cx="1338840" cy="278280"/>
              <a:chOff x="5430960" y="4038480"/>
              <a:chExt cx="1338840" cy="27828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6231240" y="4038480"/>
                <a:ext cx="272160" cy="278280"/>
                <a:chOff x="6231240" y="4038480"/>
                <a:chExt cx="272160" cy="2782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235560" y="403848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23124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5964480" y="4038480"/>
                <a:ext cx="272160" cy="278280"/>
                <a:chOff x="5964480" y="4038480"/>
                <a:chExt cx="272160" cy="278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5968800" y="403848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96448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5707080" y="4038480"/>
                <a:ext cx="272160" cy="278280"/>
                <a:chOff x="5707080" y="4038480"/>
                <a:chExt cx="272160" cy="27828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571140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70708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5430960" y="4038480"/>
                <a:ext cx="272160" cy="278280"/>
                <a:chOff x="5430960" y="4038480"/>
                <a:chExt cx="272160" cy="27828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543528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43096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6497640" y="4038480"/>
                <a:ext cx="272160" cy="278280"/>
                <a:chOff x="6497640" y="4038480"/>
                <a:chExt cx="272160" cy="27828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650196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49764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5430960" y="4305240"/>
              <a:ext cx="1338840" cy="277920"/>
              <a:chOff x="5430960" y="4305240"/>
              <a:chExt cx="1338840" cy="27792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6231240" y="4305240"/>
                <a:ext cx="272160" cy="277920"/>
                <a:chOff x="6231240" y="4305240"/>
                <a:chExt cx="272160" cy="27792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6235560" y="430524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23124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5964480" y="4305240"/>
                <a:ext cx="272160" cy="277920"/>
                <a:chOff x="5964480" y="4305240"/>
                <a:chExt cx="272160" cy="27792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5968800" y="430524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96448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5707080" y="4305240"/>
                <a:ext cx="272160" cy="277920"/>
                <a:chOff x="5707080" y="4305240"/>
                <a:chExt cx="272160" cy="27792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71140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70708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5430960" y="4305240"/>
                <a:ext cx="272160" cy="277920"/>
                <a:chOff x="5430960" y="4305240"/>
                <a:chExt cx="272160" cy="27792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543528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43096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6497640" y="4305240"/>
                <a:ext cx="272160" cy="277920"/>
                <a:chOff x="6497640" y="4305240"/>
                <a:chExt cx="272160" cy="27792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50196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49764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"/>
            <p:cNvGrpSpPr/>
            <p:nvPr/>
          </p:nvGrpSpPr>
          <p:grpSpPr>
            <a:xfrm>
              <a:off x="5430960" y="4572000"/>
              <a:ext cx="1338840" cy="277920"/>
              <a:chOff x="5430960" y="4572000"/>
              <a:chExt cx="1338840" cy="2779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231240" y="4572000"/>
                <a:ext cx="272160" cy="277920"/>
                <a:chOff x="6231240" y="4572000"/>
                <a:chExt cx="272160" cy="2779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6235560" y="45720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23124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964480" y="4572000"/>
                <a:ext cx="272160" cy="277920"/>
                <a:chOff x="5964480" y="4572000"/>
                <a:chExt cx="272160" cy="2779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968800" y="45720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96448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5707080" y="4572000"/>
                <a:ext cx="272160" cy="277920"/>
                <a:chOff x="5707080" y="4572000"/>
                <a:chExt cx="272160" cy="2779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571140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70708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5430960" y="4572000"/>
                <a:ext cx="272160" cy="277920"/>
                <a:chOff x="5430960" y="4572000"/>
                <a:chExt cx="272160" cy="2779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543528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43096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497640" y="4572000"/>
                <a:ext cx="272160" cy="277920"/>
                <a:chOff x="6497640" y="4572000"/>
                <a:chExt cx="272160" cy="27792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50196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49764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"/>
            <p:cNvGrpSpPr/>
            <p:nvPr/>
          </p:nvGrpSpPr>
          <p:grpSpPr>
            <a:xfrm>
              <a:off x="5430960" y="4838760"/>
              <a:ext cx="1338840" cy="277920"/>
              <a:chOff x="5430960" y="4838760"/>
              <a:chExt cx="1338840" cy="27792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6231240" y="4838760"/>
                <a:ext cx="272160" cy="277920"/>
                <a:chOff x="6231240" y="4838760"/>
                <a:chExt cx="272160" cy="2779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6235560" y="483876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623124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5964480" y="4838760"/>
                <a:ext cx="272160" cy="277920"/>
                <a:chOff x="5964480" y="4838760"/>
                <a:chExt cx="272160" cy="27792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5968800" y="483876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96448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5707080" y="4838760"/>
                <a:ext cx="272160" cy="277920"/>
                <a:chOff x="5707080" y="4838760"/>
                <a:chExt cx="272160" cy="27792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571140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70708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5430960" y="4838760"/>
                <a:ext cx="272160" cy="277920"/>
                <a:chOff x="5430960" y="4838760"/>
                <a:chExt cx="272160" cy="27792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543528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43096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6497640" y="4838760"/>
                <a:ext cx="272160" cy="277920"/>
                <a:chOff x="6497640" y="4838760"/>
                <a:chExt cx="272160" cy="2779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50196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49764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5" name=""/>
            <p:cNvGrpSpPr/>
            <p:nvPr/>
          </p:nvGrpSpPr>
          <p:grpSpPr>
            <a:xfrm>
              <a:off x="5430960" y="5095800"/>
              <a:ext cx="1338840" cy="278280"/>
              <a:chOff x="5430960" y="5095800"/>
              <a:chExt cx="1338840" cy="278280"/>
            </a:xfrm>
          </p:grpSpPr>
          <p:grpSp>
            <p:nvGrpSpPr>
              <p:cNvPr id="266" name=""/>
              <p:cNvGrpSpPr/>
              <p:nvPr/>
            </p:nvGrpSpPr>
            <p:grpSpPr>
              <a:xfrm>
                <a:off x="6231240" y="5095800"/>
                <a:ext cx="272160" cy="278280"/>
                <a:chOff x="6231240" y="5095800"/>
                <a:chExt cx="272160" cy="2782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6235560" y="509580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23124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5964480" y="5095800"/>
                <a:ext cx="272160" cy="278280"/>
                <a:chOff x="5964480" y="5095800"/>
                <a:chExt cx="272160" cy="2782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5968800" y="509580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96448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5707080" y="5095800"/>
                <a:ext cx="272160" cy="278280"/>
                <a:chOff x="5707080" y="5095800"/>
                <a:chExt cx="272160" cy="2782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71140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70708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5430960" y="5095800"/>
                <a:ext cx="272160" cy="278280"/>
                <a:chOff x="5430960" y="5095800"/>
                <a:chExt cx="272160" cy="2782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543528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43096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6497640" y="5095800"/>
                <a:ext cx="272160" cy="278280"/>
                <a:chOff x="6497640" y="5095800"/>
                <a:chExt cx="272160" cy="2782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650196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649764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6488280" y="4821120"/>
            <a:ext cx="280800" cy="284400"/>
            <a:chOff x="6488280" y="4821120"/>
            <a:chExt cx="280800" cy="284400"/>
          </a:xfrm>
        </p:grpSpPr>
        <p:sp>
          <p:nvSpPr>
            <p:cNvPr id="282" name=""/>
            <p:cNvSpPr/>
            <p:nvPr/>
          </p:nvSpPr>
          <p:spPr>
            <a:xfrm>
              <a:off x="6502320" y="483876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488280" y="4821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964480" y="4287960"/>
            <a:ext cx="280800" cy="283680"/>
            <a:chOff x="5964480" y="4287960"/>
            <a:chExt cx="280800" cy="283680"/>
          </a:xfrm>
        </p:grpSpPr>
        <p:sp>
          <p:nvSpPr>
            <p:cNvPr id="285" name=""/>
            <p:cNvSpPr/>
            <p:nvPr/>
          </p:nvSpPr>
          <p:spPr>
            <a:xfrm>
              <a:off x="5978520" y="430524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64480" y="42879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697720" y="4287960"/>
            <a:ext cx="280800" cy="283680"/>
            <a:chOff x="5697720" y="4287960"/>
            <a:chExt cx="280800" cy="283680"/>
          </a:xfrm>
        </p:grpSpPr>
        <p:sp>
          <p:nvSpPr>
            <p:cNvPr id="288" name=""/>
            <p:cNvSpPr/>
            <p:nvPr/>
          </p:nvSpPr>
          <p:spPr>
            <a:xfrm>
              <a:off x="5711760" y="430524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97720" y="42879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5421600" y="4830840"/>
            <a:ext cx="280800" cy="283680"/>
            <a:chOff x="5421600" y="4830840"/>
            <a:chExt cx="280800" cy="283680"/>
          </a:xfrm>
        </p:grpSpPr>
        <p:sp>
          <p:nvSpPr>
            <p:cNvPr id="291" name=""/>
            <p:cNvSpPr/>
            <p:nvPr/>
          </p:nvSpPr>
          <p:spPr>
            <a:xfrm>
              <a:off x="5435640" y="484812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21600" y="4830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958000" y="4281480"/>
            <a:ext cx="280800" cy="283680"/>
            <a:chOff x="5958000" y="4281480"/>
            <a:chExt cx="280800" cy="283680"/>
          </a:xfrm>
        </p:grpSpPr>
        <p:sp>
          <p:nvSpPr>
            <p:cNvPr id="294" name=""/>
            <p:cNvSpPr/>
            <p:nvPr/>
          </p:nvSpPr>
          <p:spPr>
            <a:xfrm>
              <a:off x="5972040" y="429876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58000" y="4281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6221520" y="4287960"/>
            <a:ext cx="280800" cy="283680"/>
            <a:chOff x="6221520" y="4287960"/>
            <a:chExt cx="280800" cy="283680"/>
          </a:xfrm>
        </p:grpSpPr>
        <p:sp>
          <p:nvSpPr>
            <p:cNvPr id="297" name=""/>
            <p:cNvSpPr/>
            <p:nvPr/>
          </p:nvSpPr>
          <p:spPr>
            <a:xfrm>
              <a:off x="6235560" y="430524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21520" y="42879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421600" y="4821120"/>
            <a:ext cx="280800" cy="284400"/>
            <a:chOff x="5421600" y="4821120"/>
            <a:chExt cx="280800" cy="284400"/>
          </a:xfrm>
        </p:grpSpPr>
        <p:sp>
          <p:nvSpPr>
            <p:cNvPr id="300" name=""/>
            <p:cNvSpPr/>
            <p:nvPr/>
          </p:nvSpPr>
          <p:spPr>
            <a:xfrm>
              <a:off x="5435640" y="483876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21600" y="4821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697720" y="4830840"/>
            <a:ext cx="280800" cy="283680"/>
            <a:chOff x="5697720" y="4830840"/>
            <a:chExt cx="280800" cy="283680"/>
          </a:xfrm>
        </p:grpSpPr>
        <p:sp>
          <p:nvSpPr>
            <p:cNvPr id="303" name=""/>
            <p:cNvSpPr/>
            <p:nvPr/>
          </p:nvSpPr>
          <p:spPr>
            <a:xfrm>
              <a:off x="5711760" y="484812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697720" y="4830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4B572-A7C3-4FAC-865D-957F842E61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44444E-006 L 0.02604 -4.44444E-006 E">
                                      <p:cBhvr>
                                        <p:cTn id="49" dur="1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L 0.02812 -3.33333E-006 E">
                                      <p:cBhvr>
                                        <p:cTn id="57" dur="1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-1.11111E-006 L 0.03021 -1.11111E-006 E">
                                      <p:cBhvr>
                                        <p:cTn id="73" dur="1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44444E-006 L -0.03073 -0.04931 C -0.03733 -0.06042 -0.04688 -0.06644 -0.05695 -0.06644 C -0.06841 -0.06644 -0.07743 -0.06042 -0.08403 -0.04931 L -0.11459 4.44444E-006 E">
                                      <p:cBhvr>
                                        <p:cTn id="81" dur="1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 Tw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ain using the keyword array formed from “softwar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aintext letter pair “AL” becomes “D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 columns circle bac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mselves, the lett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 “TY” becomes “B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430960" y="4594320"/>
            <a:ext cx="1338840" cy="1334880"/>
            <a:chOff x="5430960" y="4594320"/>
            <a:chExt cx="1338840" cy="1334880"/>
          </a:xfrm>
        </p:grpSpPr>
        <p:grpSp>
          <p:nvGrpSpPr>
            <p:cNvPr id="308" name=""/>
            <p:cNvGrpSpPr/>
            <p:nvPr/>
          </p:nvGrpSpPr>
          <p:grpSpPr>
            <a:xfrm>
              <a:off x="5430960" y="4594320"/>
              <a:ext cx="1338840" cy="277920"/>
              <a:chOff x="5430960" y="4594320"/>
              <a:chExt cx="1338840" cy="27792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6231240" y="4594320"/>
                <a:ext cx="272160" cy="277920"/>
                <a:chOff x="6231240" y="4594320"/>
                <a:chExt cx="272160" cy="2779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6235560" y="459432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231240" y="45957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964480" y="4594320"/>
                <a:ext cx="272160" cy="277920"/>
                <a:chOff x="5964480" y="4594320"/>
                <a:chExt cx="272160" cy="2779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968800" y="459432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964480" y="45957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707080" y="4594320"/>
                <a:ext cx="272160" cy="277920"/>
                <a:chOff x="5707080" y="4594320"/>
                <a:chExt cx="272160" cy="2779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711400" y="459432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707080" y="45957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5430960" y="4594320"/>
                <a:ext cx="272160" cy="277920"/>
                <a:chOff x="5430960" y="4594320"/>
                <a:chExt cx="272160" cy="2779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5435280" y="459432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5430960" y="45957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497640" y="4594320"/>
                <a:ext cx="272160" cy="277920"/>
                <a:chOff x="6497640" y="4594320"/>
                <a:chExt cx="272160" cy="2779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6501960" y="459432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497640" y="45957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4" name=""/>
            <p:cNvGrpSpPr/>
            <p:nvPr/>
          </p:nvGrpSpPr>
          <p:grpSpPr>
            <a:xfrm>
              <a:off x="5430960" y="4860720"/>
              <a:ext cx="1338840" cy="277920"/>
              <a:chOff x="5430960" y="4860720"/>
              <a:chExt cx="1338840" cy="27792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6231240" y="4860720"/>
                <a:ext cx="272160" cy="277920"/>
                <a:chOff x="6231240" y="4860720"/>
                <a:chExt cx="272160" cy="2779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6235560" y="486072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231240" y="48621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964480" y="4860720"/>
                <a:ext cx="272160" cy="277920"/>
                <a:chOff x="5964480" y="4860720"/>
                <a:chExt cx="272160" cy="2779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5968800" y="486072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964480" y="48621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5707080" y="4860720"/>
                <a:ext cx="272160" cy="277920"/>
                <a:chOff x="5707080" y="4860720"/>
                <a:chExt cx="272160" cy="2779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5711400" y="486072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5707080" y="48621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5430960" y="4860720"/>
                <a:ext cx="272160" cy="277920"/>
                <a:chOff x="5430960" y="4860720"/>
                <a:chExt cx="272160" cy="2779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5435280" y="486072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5430960" y="48621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6497640" y="4860720"/>
                <a:ext cx="272160" cy="277920"/>
                <a:chOff x="6497640" y="4860720"/>
                <a:chExt cx="272160" cy="27792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6501960" y="486072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497640" y="48621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0" name=""/>
            <p:cNvGrpSpPr/>
            <p:nvPr/>
          </p:nvGrpSpPr>
          <p:grpSpPr>
            <a:xfrm>
              <a:off x="5430960" y="5127480"/>
              <a:ext cx="1338840" cy="277920"/>
              <a:chOff x="5430960" y="5127480"/>
              <a:chExt cx="1338840" cy="277920"/>
            </a:xfrm>
          </p:grpSpPr>
          <p:grpSp>
            <p:nvGrpSpPr>
              <p:cNvPr id="341" name=""/>
              <p:cNvGrpSpPr/>
              <p:nvPr/>
            </p:nvGrpSpPr>
            <p:grpSpPr>
              <a:xfrm>
                <a:off x="6231240" y="5127480"/>
                <a:ext cx="272160" cy="277920"/>
                <a:chOff x="6231240" y="5127480"/>
                <a:chExt cx="272160" cy="27792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6235560" y="512748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231240" y="5128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5964480" y="5127480"/>
                <a:ext cx="272160" cy="277920"/>
                <a:chOff x="5964480" y="5127480"/>
                <a:chExt cx="272160" cy="27792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5968800" y="512748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5964480" y="5128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5707080" y="5127480"/>
                <a:ext cx="272160" cy="277920"/>
                <a:chOff x="5707080" y="5127480"/>
                <a:chExt cx="272160" cy="27792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5711400" y="512748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5707080" y="5128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5430960" y="5127480"/>
                <a:ext cx="272160" cy="277920"/>
                <a:chOff x="5430960" y="5127480"/>
                <a:chExt cx="272160" cy="27792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5435280" y="512748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430960" y="5128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6497640" y="5127480"/>
                <a:ext cx="272160" cy="277920"/>
                <a:chOff x="6497640" y="5127480"/>
                <a:chExt cx="272160" cy="27792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6501960" y="512748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497640" y="5128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6" name=""/>
            <p:cNvGrpSpPr/>
            <p:nvPr/>
          </p:nvGrpSpPr>
          <p:grpSpPr>
            <a:xfrm>
              <a:off x="5430960" y="5394240"/>
              <a:ext cx="1338840" cy="277920"/>
              <a:chOff x="5430960" y="5394240"/>
              <a:chExt cx="1338840" cy="27792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6231240" y="5394240"/>
                <a:ext cx="272160" cy="277920"/>
                <a:chOff x="6231240" y="5394240"/>
                <a:chExt cx="272160" cy="2779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6235560" y="539424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231240" y="5395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5964480" y="5394240"/>
                <a:ext cx="272160" cy="277920"/>
                <a:chOff x="5964480" y="5394240"/>
                <a:chExt cx="272160" cy="2779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5968800" y="539424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5964480" y="5395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5707080" y="5394240"/>
                <a:ext cx="272160" cy="277920"/>
                <a:chOff x="5707080" y="5394240"/>
                <a:chExt cx="272160" cy="2779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711400" y="539424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5707080" y="5395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430960" y="5394240"/>
                <a:ext cx="272160" cy="277920"/>
                <a:chOff x="5430960" y="5394240"/>
                <a:chExt cx="272160" cy="2779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435280" y="539424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430960" y="5395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497640" y="5394240"/>
                <a:ext cx="272160" cy="277920"/>
                <a:chOff x="6497640" y="5394240"/>
                <a:chExt cx="272160" cy="2779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501960" y="539424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497640" y="5395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2" name=""/>
            <p:cNvGrpSpPr/>
            <p:nvPr/>
          </p:nvGrpSpPr>
          <p:grpSpPr>
            <a:xfrm>
              <a:off x="5430960" y="5651280"/>
              <a:ext cx="1338840" cy="277920"/>
              <a:chOff x="5430960" y="5651280"/>
              <a:chExt cx="1338840" cy="27792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6231240" y="5651280"/>
                <a:ext cx="272160" cy="277920"/>
                <a:chOff x="6231240" y="5651280"/>
                <a:chExt cx="272160" cy="27792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6235560" y="565128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6231240" y="56527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5964480" y="5651280"/>
                <a:ext cx="272160" cy="277920"/>
                <a:chOff x="5964480" y="5651280"/>
                <a:chExt cx="272160" cy="27792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5968800" y="565128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5964480" y="56527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5707080" y="5651280"/>
                <a:ext cx="272160" cy="277920"/>
                <a:chOff x="5707080" y="5651280"/>
                <a:chExt cx="272160" cy="27792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5711400" y="565128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5707080" y="56527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5430960" y="5651280"/>
                <a:ext cx="272160" cy="277920"/>
                <a:chOff x="5430960" y="5651280"/>
                <a:chExt cx="272160" cy="27792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5435280" y="565128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430960" y="56527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6497640" y="5651280"/>
                <a:ext cx="272160" cy="277920"/>
                <a:chOff x="6497640" y="5651280"/>
                <a:chExt cx="272160" cy="2779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6501960" y="565128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497640" y="56527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88" name=""/>
          <p:cNvGrpSpPr/>
          <p:nvPr/>
        </p:nvGrpSpPr>
        <p:grpSpPr>
          <a:xfrm>
            <a:off x="5421600" y="4834080"/>
            <a:ext cx="280800" cy="283680"/>
            <a:chOff x="5421600" y="4834080"/>
            <a:chExt cx="280800" cy="283680"/>
          </a:xfrm>
        </p:grpSpPr>
        <p:sp>
          <p:nvSpPr>
            <p:cNvPr id="389" name=""/>
            <p:cNvSpPr/>
            <p:nvPr/>
          </p:nvSpPr>
          <p:spPr>
            <a:xfrm>
              <a:off x="5435640" y="485136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21600" y="4834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421600" y="5367240"/>
            <a:ext cx="280800" cy="284400"/>
            <a:chOff x="5421600" y="5367240"/>
            <a:chExt cx="280800" cy="284400"/>
          </a:xfrm>
        </p:grpSpPr>
        <p:sp>
          <p:nvSpPr>
            <p:cNvPr id="392" name=""/>
            <p:cNvSpPr/>
            <p:nvPr/>
          </p:nvSpPr>
          <p:spPr>
            <a:xfrm>
              <a:off x="5435640" y="53848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21600" y="53672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6216840" y="4576680"/>
            <a:ext cx="280800" cy="284400"/>
            <a:chOff x="6216840" y="4576680"/>
            <a:chExt cx="280800" cy="284400"/>
          </a:xfrm>
        </p:grpSpPr>
        <p:sp>
          <p:nvSpPr>
            <p:cNvPr id="395" name=""/>
            <p:cNvSpPr/>
            <p:nvPr/>
          </p:nvSpPr>
          <p:spPr>
            <a:xfrm>
              <a:off x="6230880" y="459432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216840" y="4576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5426280" y="5634000"/>
            <a:ext cx="280800" cy="283680"/>
            <a:chOff x="5426280" y="5634000"/>
            <a:chExt cx="280800" cy="283680"/>
          </a:xfrm>
        </p:grpSpPr>
        <p:sp>
          <p:nvSpPr>
            <p:cNvPr id="398" name=""/>
            <p:cNvSpPr/>
            <p:nvPr/>
          </p:nvSpPr>
          <p:spPr>
            <a:xfrm>
              <a:off x="5440320" y="565128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426280" y="5634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5421600" y="5105520"/>
            <a:ext cx="280800" cy="283680"/>
            <a:chOff x="5421600" y="5105520"/>
            <a:chExt cx="280800" cy="283680"/>
          </a:xfrm>
        </p:grpSpPr>
        <p:sp>
          <p:nvSpPr>
            <p:cNvPr id="401" name=""/>
            <p:cNvSpPr/>
            <p:nvPr/>
          </p:nvSpPr>
          <p:spPr>
            <a:xfrm>
              <a:off x="5435640" y="512280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421600" y="51055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6216840" y="5634000"/>
            <a:ext cx="280800" cy="283680"/>
            <a:chOff x="6216840" y="5634000"/>
            <a:chExt cx="280800" cy="283680"/>
          </a:xfrm>
        </p:grpSpPr>
        <p:sp>
          <p:nvSpPr>
            <p:cNvPr id="404" name=""/>
            <p:cNvSpPr/>
            <p:nvPr/>
          </p:nvSpPr>
          <p:spPr>
            <a:xfrm>
              <a:off x="6230880" y="565128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16840" y="5634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6216840" y="4848120"/>
            <a:ext cx="280800" cy="284400"/>
            <a:chOff x="6216840" y="4848120"/>
            <a:chExt cx="280800" cy="284400"/>
          </a:xfrm>
        </p:grpSpPr>
        <p:sp>
          <p:nvSpPr>
            <p:cNvPr id="407" name=""/>
            <p:cNvSpPr/>
            <p:nvPr/>
          </p:nvSpPr>
          <p:spPr>
            <a:xfrm>
              <a:off x="6230880" y="486576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16840" y="4848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212160" y="4586400"/>
            <a:ext cx="280800" cy="283680"/>
            <a:chOff x="6212160" y="4586400"/>
            <a:chExt cx="280800" cy="283680"/>
          </a:xfrm>
        </p:grpSpPr>
        <p:sp>
          <p:nvSpPr>
            <p:cNvPr id="410" name=""/>
            <p:cNvSpPr/>
            <p:nvPr/>
          </p:nvSpPr>
          <p:spPr>
            <a:xfrm>
              <a:off x="6226200" y="460368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212160" y="45864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01987-84FA-40DD-9C95-F6E3CAA2F1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0.00069 L 2.77778E-007 0.04098 E">
                                      <p:cBhvr>
                                        <p:cTn id="107" dur="1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0.00069 L 2.77778E-007 0.0382 E">
                                      <p:cBhvr>
                                        <p:cTn id="115" dur="1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44444E-006 L 1.11111E-006 0.0382 E">
                                      <p:cBhvr>
                                        <p:cTn id="131" dur="1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0.00069 L 0.03941 -0.04098 C 0.04844 -0.04954 0.05347 -0.06273 0.05347 -0.07616 C 0.05347 -0.09167 0.04844 -0.10417 0.03941 -0.11273 L 2.77778E-007 -0.15417 E">
                                      <p:cBhvr>
                                        <p:cTn id="139" dur="1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 Th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keyword array formed from “softwa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tter pair “OP” forms two corners of an imaginary rect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it is replaced by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s on the oth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ners “T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5430960" y="4038480"/>
            <a:ext cx="1338840" cy="1335600"/>
            <a:chOff x="5430960" y="4038480"/>
            <a:chExt cx="1338840" cy="1335600"/>
          </a:xfrm>
        </p:grpSpPr>
        <p:grpSp>
          <p:nvGrpSpPr>
            <p:cNvPr id="415" name=""/>
            <p:cNvGrpSpPr/>
            <p:nvPr/>
          </p:nvGrpSpPr>
          <p:grpSpPr>
            <a:xfrm>
              <a:off x="5430960" y="4038480"/>
              <a:ext cx="1338840" cy="278280"/>
              <a:chOff x="5430960" y="4038480"/>
              <a:chExt cx="1338840" cy="27828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6231240" y="4038480"/>
                <a:ext cx="272160" cy="278280"/>
                <a:chOff x="6231240" y="4038480"/>
                <a:chExt cx="272160" cy="27828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6235560" y="403848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23124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5964480" y="4038480"/>
                <a:ext cx="272160" cy="278280"/>
                <a:chOff x="5964480" y="4038480"/>
                <a:chExt cx="272160" cy="27828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5968800" y="403848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596448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5707080" y="4038480"/>
                <a:ext cx="272160" cy="278280"/>
                <a:chOff x="5707080" y="4038480"/>
                <a:chExt cx="272160" cy="27828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571140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70708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5430960" y="4038480"/>
                <a:ext cx="272160" cy="278280"/>
                <a:chOff x="5430960" y="4038480"/>
                <a:chExt cx="272160" cy="27828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543528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543096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6497640" y="4038480"/>
                <a:ext cx="272160" cy="278280"/>
                <a:chOff x="6497640" y="4038480"/>
                <a:chExt cx="272160" cy="27828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650196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649764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1" name=""/>
            <p:cNvGrpSpPr/>
            <p:nvPr/>
          </p:nvGrpSpPr>
          <p:grpSpPr>
            <a:xfrm>
              <a:off x="5430960" y="4305240"/>
              <a:ext cx="1338840" cy="277920"/>
              <a:chOff x="5430960" y="4305240"/>
              <a:chExt cx="1338840" cy="277920"/>
            </a:xfrm>
          </p:grpSpPr>
          <p:grpSp>
            <p:nvGrpSpPr>
              <p:cNvPr id="432" name=""/>
              <p:cNvGrpSpPr/>
              <p:nvPr/>
            </p:nvGrpSpPr>
            <p:grpSpPr>
              <a:xfrm>
                <a:off x="6231240" y="4305240"/>
                <a:ext cx="272160" cy="277920"/>
                <a:chOff x="6231240" y="4305240"/>
                <a:chExt cx="272160" cy="2779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6235560" y="430524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623124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5964480" y="4305240"/>
                <a:ext cx="272160" cy="277920"/>
                <a:chOff x="5964480" y="4305240"/>
                <a:chExt cx="272160" cy="2779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968800" y="430524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96448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07080" y="4305240"/>
                <a:ext cx="272160" cy="277920"/>
                <a:chOff x="5707080" y="4305240"/>
                <a:chExt cx="272160" cy="2779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1140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70708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5430960" y="4305240"/>
                <a:ext cx="272160" cy="277920"/>
                <a:chOff x="5430960" y="4305240"/>
                <a:chExt cx="272160" cy="2779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543528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43096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6497640" y="4305240"/>
                <a:ext cx="272160" cy="277920"/>
                <a:chOff x="6497640" y="4305240"/>
                <a:chExt cx="272160" cy="2779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650196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49764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7" name=""/>
            <p:cNvGrpSpPr/>
            <p:nvPr/>
          </p:nvGrpSpPr>
          <p:grpSpPr>
            <a:xfrm>
              <a:off x="5430960" y="4572000"/>
              <a:ext cx="1338840" cy="277920"/>
              <a:chOff x="5430960" y="4572000"/>
              <a:chExt cx="1338840" cy="277920"/>
            </a:xfrm>
          </p:grpSpPr>
          <p:grpSp>
            <p:nvGrpSpPr>
              <p:cNvPr id="448" name=""/>
              <p:cNvGrpSpPr/>
              <p:nvPr/>
            </p:nvGrpSpPr>
            <p:grpSpPr>
              <a:xfrm>
                <a:off x="6231240" y="4572000"/>
                <a:ext cx="272160" cy="277920"/>
                <a:chOff x="6231240" y="4572000"/>
                <a:chExt cx="272160" cy="27792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6235560" y="45720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23124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5964480" y="4572000"/>
                <a:ext cx="272160" cy="277920"/>
                <a:chOff x="5964480" y="4572000"/>
                <a:chExt cx="272160" cy="2779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5968800" y="45720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96448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5707080" y="4572000"/>
                <a:ext cx="272160" cy="277920"/>
                <a:chOff x="5707080" y="4572000"/>
                <a:chExt cx="272160" cy="2779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571140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70708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5430960" y="4572000"/>
                <a:ext cx="272160" cy="277920"/>
                <a:chOff x="5430960" y="4572000"/>
                <a:chExt cx="272160" cy="27792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543528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543096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6497640" y="4572000"/>
                <a:ext cx="272160" cy="277920"/>
                <a:chOff x="6497640" y="4572000"/>
                <a:chExt cx="272160" cy="27792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650196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49764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3" name=""/>
            <p:cNvGrpSpPr/>
            <p:nvPr/>
          </p:nvGrpSpPr>
          <p:grpSpPr>
            <a:xfrm>
              <a:off x="5430960" y="4838760"/>
              <a:ext cx="1338840" cy="277920"/>
              <a:chOff x="5430960" y="4838760"/>
              <a:chExt cx="1338840" cy="27792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6231240" y="4838760"/>
                <a:ext cx="272160" cy="277920"/>
                <a:chOff x="6231240" y="4838760"/>
                <a:chExt cx="272160" cy="27792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6235560" y="483876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23124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964480" y="4838760"/>
                <a:ext cx="272160" cy="277920"/>
                <a:chOff x="5964480" y="4838760"/>
                <a:chExt cx="272160" cy="27792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968800" y="483876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96448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707080" y="4838760"/>
                <a:ext cx="272160" cy="277920"/>
                <a:chOff x="5707080" y="4838760"/>
                <a:chExt cx="272160" cy="27792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71140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70708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5430960" y="4838760"/>
                <a:ext cx="272160" cy="277920"/>
                <a:chOff x="5430960" y="4838760"/>
                <a:chExt cx="272160" cy="27792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543528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543096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6497640" y="4838760"/>
                <a:ext cx="272160" cy="277920"/>
                <a:chOff x="6497640" y="4838760"/>
                <a:chExt cx="272160" cy="27792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650196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49764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9" name=""/>
            <p:cNvGrpSpPr/>
            <p:nvPr/>
          </p:nvGrpSpPr>
          <p:grpSpPr>
            <a:xfrm>
              <a:off x="5430960" y="5095800"/>
              <a:ext cx="1338840" cy="278280"/>
              <a:chOff x="5430960" y="5095800"/>
              <a:chExt cx="1338840" cy="27828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6231240" y="5095800"/>
                <a:ext cx="272160" cy="278280"/>
                <a:chOff x="6231240" y="5095800"/>
                <a:chExt cx="272160" cy="2782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235560" y="509580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23124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5964480" y="5095800"/>
                <a:ext cx="272160" cy="278280"/>
                <a:chOff x="5964480" y="5095800"/>
                <a:chExt cx="272160" cy="27828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5968800" y="509580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596448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5707080" y="5095800"/>
                <a:ext cx="272160" cy="278280"/>
                <a:chOff x="5707080" y="5095800"/>
                <a:chExt cx="272160" cy="27828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571140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70708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5430960" y="5095800"/>
                <a:ext cx="272160" cy="278280"/>
                <a:chOff x="5430960" y="5095800"/>
                <a:chExt cx="272160" cy="27828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543528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43096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6497640" y="5095800"/>
                <a:ext cx="272160" cy="278280"/>
                <a:chOff x="6497640" y="5095800"/>
                <a:chExt cx="272160" cy="27828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650196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49764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95" name=""/>
          <p:cNvGrpSpPr/>
          <p:nvPr/>
        </p:nvGrpSpPr>
        <p:grpSpPr>
          <a:xfrm>
            <a:off x="6221520" y="4816440"/>
            <a:ext cx="280800" cy="283680"/>
            <a:chOff x="6221520" y="4816440"/>
            <a:chExt cx="280800" cy="283680"/>
          </a:xfrm>
        </p:grpSpPr>
        <p:sp>
          <p:nvSpPr>
            <p:cNvPr id="496" name=""/>
            <p:cNvSpPr/>
            <p:nvPr/>
          </p:nvSpPr>
          <p:spPr>
            <a:xfrm>
              <a:off x="6235560" y="483372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221520" y="48164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693040" y="4021200"/>
            <a:ext cx="280800" cy="283680"/>
            <a:chOff x="5693040" y="4021200"/>
            <a:chExt cx="280800" cy="283680"/>
          </a:xfrm>
        </p:grpSpPr>
        <p:sp>
          <p:nvSpPr>
            <p:cNvPr id="499" name=""/>
            <p:cNvSpPr/>
            <p:nvPr/>
          </p:nvSpPr>
          <p:spPr>
            <a:xfrm>
              <a:off x="5707080" y="403848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693040" y="40212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5829480" y="4162320"/>
            <a:ext cx="547560" cy="8287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226560" y="4021200"/>
            <a:ext cx="280080" cy="283680"/>
            <a:chOff x="6226560" y="4021200"/>
            <a:chExt cx="280080" cy="283680"/>
          </a:xfrm>
        </p:grpSpPr>
        <p:sp>
          <p:nvSpPr>
            <p:cNvPr id="503" name=""/>
            <p:cNvSpPr/>
            <p:nvPr/>
          </p:nvSpPr>
          <p:spPr>
            <a:xfrm>
              <a:off x="6240240" y="403848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26560" y="40212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5693040" y="4816440"/>
            <a:ext cx="280800" cy="283680"/>
            <a:chOff x="5693040" y="4816440"/>
            <a:chExt cx="280800" cy="283680"/>
          </a:xfrm>
        </p:grpSpPr>
        <p:sp>
          <p:nvSpPr>
            <p:cNvPr id="506" name=""/>
            <p:cNvSpPr/>
            <p:nvPr/>
          </p:nvSpPr>
          <p:spPr>
            <a:xfrm>
              <a:off x="5707080" y="483372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93040" y="48164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53A2B-8705-475D-8DAB-F909367DF4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44444E-006 L 0.05729 -4.44444E-006 E">
                                      <p:cBhvr>
                                        <p:cTn id="170" dur="1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33333E-006 L -0.05573 3.33333E-006 E">
                                      <p:cBhvr>
                                        <p:cTn id="172" dur="1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will implement playfai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3100320" y="3009960"/>
            <a:ext cx="4219560" cy="363384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6013440" y="3022560"/>
            <a:ext cx="1182600" cy="9144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584520" y="2679840"/>
            <a:ext cx="1182600" cy="452160"/>
          </a:xfrm>
          <a:prstGeom prst="wedgeRoundRectCallout">
            <a:avLst>
              <a:gd name="adj1" fmla="val -43689"/>
              <a:gd name="adj2" fmla="val 90351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0B58F-851D-459B-BF02-1E1B72DDAF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26T01:48:04Z</dcterms:modified>
  <cp:revision>69</cp:revision>
  <dc:subject/>
  <dc:title>CAP Cryptographic Analysis Program</dc:title>
</cp:coreProperties>
</file>